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282161"/>
        <c:axId val="8729045"/>
      </c:barChart>
      <c:catAx>
        <c:axId val="94282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9045"/>
        <c:crosses val="autoZero"/>
        <c:auto val="1"/>
        <c:lblAlgn val="ctr"/>
        <c:lblOffset val="100"/>
        <c:noMultiLvlLbl val="0"/>
      </c:catAx>
      <c:valAx>
        <c:axId val="8729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82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1ED-B73D-4347-9CB7-147C89B6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7F6-16FF-4DDA-BDE0-066B77ED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D2F-49A0-4536-995E-DA32E769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B67-E437-48EC-9766-3B5599B9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7C3-163C-4F24-B3F8-4A508E91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7A1-7ADF-4F77-9C7A-AB032B6E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9D7-6E2C-4C63-9C01-86A148C7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50FE-E649-4CE2-84E5-374E112B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6F6E-C316-4A79-BB96-44545456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985-89B1-454C-9D1A-51CCCF05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71A-7034-4E17-97B1-B5392ACA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06B-1F79-43F0-A97D-9147E987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E0DAA-91CD-450A-BA1F-260979BDBF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