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80552"/>
        <c:axId val="69581116"/>
      </c:barChart>
      <c:catAx>
        <c:axId val="34180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81116"/>
        <c:crosses val="autoZero"/>
        <c:auto val="1"/>
        <c:lblAlgn val="ctr"/>
        <c:lblOffset val="100"/>
        <c:noMultiLvlLbl val="0"/>
      </c:catAx>
      <c:valAx>
        <c:axId val="69581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80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D8C-63CB-425F-AF61-A32A8605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75B-C4B2-40DE-A093-A6321D29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808-7319-4653-B12A-3B8187CA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97E-1D7B-4A48-A16E-8113D458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564-310A-4331-98D1-37C79235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27E-EB18-4BDA-AE6B-8B99920B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C10-4CAA-438D-8038-B10EB79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4A1-9986-4EE4-ABEC-2B449649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8B7-6DA2-4F80-B594-A72B2ACE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806-6149-4D14-9C25-781311B2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FE5-803E-4C2F-8A36-53E4C2BF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87A-3C73-40F8-84CE-775173E6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9F8E7-2E7C-4D5C-83F3-FA31115A31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