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60200"/>
        <c:axId val="67621004"/>
      </c:barChart>
      <c:catAx>
        <c:axId val="72860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21004"/>
        <c:crosses val="autoZero"/>
        <c:auto val="1"/>
        <c:lblAlgn val="ctr"/>
        <c:lblOffset val="100"/>
        <c:noMultiLvlLbl val="0"/>
      </c:catAx>
      <c:valAx>
        <c:axId val="67621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60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5E2-5D1D-474F-A39A-C37802AC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129-1E4A-4B6E-87BA-7F953799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5BB-9077-4472-8A6C-BF6467B6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195-9A72-47A8-915B-92577536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C14-0B13-4D02-9FC9-4AD01EDB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DCE-B28D-4B18-8169-26A4038B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0A9-19F7-45AC-92B5-60E8F063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A62-9C95-4303-94E6-01BF18EC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3EF-B526-4F72-A38F-377F25A3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409-A107-4C8B-B871-28874E0C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B52-CE88-492E-A381-BD48A777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21D-B56B-456A-9F74-FBDFD0D4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8C0BC-A576-49EA-B6AB-76AFFA3AB5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