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81512"/>
        <c:axId val="76283218"/>
      </c:barChart>
      <c:catAx>
        <c:axId val="48381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83218"/>
        <c:crosses val="autoZero"/>
        <c:auto val="1"/>
        <c:lblAlgn val="ctr"/>
        <c:lblOffset val="100"/>
        <c:noMultiLvlLbl val="0"/>
      </c:catAx>
      <c:valAx>
        <c:axId val="76283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81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019-A918-474C-A033-70E48864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DD3-AEC9-49FC-BB6C-5415C2D4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AC0-1589-457C-A0DB-B1886818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702-B5C8-45BA-B331-75A8D857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E71-48D0-4F3F-9CAA-18BA0C08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764-1A1E-4445-9833-5C7985F8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218-3540-4F2F-812B-5900AE3B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D54-5FE3-4DA3-B256-19E9AB49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578-53D6-4350-927E-F55AA203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17A-689E-4D4D-90B8-DB671DF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5E9-51DF-4E81-9747-3D852EC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BE9-AA1B-4C09-8073-4D21E1D5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4844B-F554-49D7-B144-C9C3A05089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